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464-DB9A-45ED-9F8D-19BBB6D1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A5C-8CA5-4B7A-B99E-B06AB57E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935E-ACCA-4513-8E5E-0C1944BC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98B-82BF-4BB7-A457-1791E0B8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4E3-10A5-4388-AAD0-F89853FF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CED7-7633-49AA-9614-CCB0C8FE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C34-4E85-472C-889B-BF6E7627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0C6-39B8-482B-A863-17408ACA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171-F7FC-481A-B270-F831609B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158-597D-41ED-B71C-C8634D15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EF0-135C-4DFB-A7FC-33570334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ED8-D49D-49C6-89EB-33AD54C7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3B6E-EC87-441F-BC96-98BCA68AE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37:40Z</dcterms:created>
  <dc:creator>Grupo Editorial</dc:creator>
  <dc:description/>
  <dc:language>en-US</dc:language>
  <cp:lastModifiedBy>Grupo Editorial</cp:lastModifiedBy>
  <dcterms:modified xsi:type="dcterms:W3CDTF">2001-11-13T10:41:29Z</dcterms:modified>
  <cp:revision>1</cp:revision>
  <dc:subject/>
  <dc:title>Sin título de diapositiva</dc:title>
</cp:coreProperties>
</file>